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4001e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a4001e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900E-F49E-42C3-B967-A8E4156F7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F791-F61D-4212-B7DE-42872E964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D802-3F71-444D-B87A-5536E90F0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FF71-C7E6-4C1B-85C3-67EC71CF9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EB21-D426-4EB6-854F-256F44399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5FD4-2387-478A-9901-7AC885857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1A2F-3190-4F70-97A4-74BC00AA4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388E-9198-4983-83F0-3A28B0D99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730A-7E8B-47D8-AA21-89A0247A3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CAA8-CA13-4368-A243-3E5E29D58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F54A-2F92-4136-9C85-29878FB4B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F254-FA6A-42DF-8F50-95B283EE8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4001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698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4001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698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698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4001e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698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698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69840"/>
            <a:ext cx="264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400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4001e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4001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4001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4001e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698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4001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698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a4001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69840"/>
            <a:ext cx="8229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4001e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a4001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rcadia.edu/calculato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scarletandgrey_arcadia.png"/>
          <p:cNvPicPr/>
          <p:nvPr/>
        </p:nvPicPr>
        <p:blipFill>
          <a:blip r:embed="rId1"/>
          <a:stretch/>
        </p:blipFill>
        <p:spPr>
          <a:xfrm>
            <a:off x="4660920" y="1252440"/>
            <a:ext cx="4483080" cy="4483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044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4001e"/>
                </a:solidFill>
                <a:latin typeface="Bernard MT Condensed"/>
              </a:rPr>
              <a:t>The College Admissions Process</a:t>
            </a:r>
            <a:endParaRPr b="0" lang="en-US" sz="3600" spc="-1" strike="noStrike">
              <a:solidFill>
                <a:srgbClr val="a4001e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96720" y="1480680"/>
            <a:ext cx="56865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Steps To Suc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Step One: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Step Two: A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Step Three: Commun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Step Four: Organ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81481E-006 L 0.00243 -0.26343 E"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380880" y="35388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ernard MT Condensed"/>
              </a:rPr>
              <a:t>Merit Scholarshi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1116000"/>
            <a:ext cx="867240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istinguished Scholarship and Achievement Aw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arded based on academic performance, standardized test scores and other factors such as leadership, involvement, and  community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eparate application necessary— All admitted students are automatically reviewed on an individual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ewable from year to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1366920" y="1778040"/>
            <a:ext cx="7273800" cy="2568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380880" y="35388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ernard MT Condensed"/>
              </a:rPr>
              <a:t>Financial Ai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712800" y="1165320"/>
            <a:ext cx="8097840" cy="31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98% of full-time undergraduates receive financial 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t our online calculator for an estimate at </a:t>
            </a:r>
            <a:r>
              <a:rPr b="0" lang="en-US" sz="2800" spc="-1" strike="noStrike" u="sng">
                <a:solidFill>
                  <a:srgbClr val="800000"/>
                </a:solidFill>
                <a:uFillTx/>
                <a:latin typeface="Tahoma"/>
                <a:hlinkClick r:id="rId1"/>
              </a:rPr>
              <a:t>www.arcadia.edu/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Grants and Lo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lementary to scholar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ch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iority Dead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87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ernard MT Condensed"/>
              </a:rPr>
              <a:t>Essay</a:t>
            </a:r>
            <a:endParaRPr b="0" lang="en-US" sz="4800" spc="-1" strike="noStrike">
              <a:solidFill>
                <a:srgbClr val="a4001e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80880" y="85356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light your ski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 us why you’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epar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go to colle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e knowledge of our pr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the ques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wer the ques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have the option to write about anything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rite about yoursel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rag!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OF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ofread Ag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friend/teacher/family member/counsel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ofrea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4525920" y="5227560"/>
            <a:ext cx="4253040" cy="916920"/>
          </a:xfrm>
          <a:prstGeom prst="rect">
            <a:avLst/>
          </a:prstGeom>
          <a:solidFill>
            <a:srgbClr val="d9d9d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’s okay to use the same essay for every school, but remember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ame of the school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4001e"/>
                </a:solidFill>
                <a:latin typeface="Bernard MT Condensed"/>
              </a:rPr>
              <a:t>Step Three: Communicate</a:t>
            </a:r>
            <a:endParaRPr b="0" lang="en-US" sz="3600" spc="-1" strike="noStrike">
              <a:solidFill>
                <a:srgbClr val="a4001e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203480"/>
            <a:ext cx="8229600" cy="23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E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Regular 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Phone 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Facebook, Twitter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scarletandgrey_arcadia.png"/>
          <p:cNvPicPr/>
          <p:nvPr/>
        </p:nvPicPr>
        <p:blipFill>
          <a:blip r:embed="rId1"/>
          <a:stretch/>
        </p:blipFill>
        <p:spPr>
          <a:xfrm>
            <a:off x="5437080" y="3359160"/>
            <a:ext cx="3270240" cy="327024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417600" y="3959280"/>
            <a:ext cx="5251320" cy="1800360"/>
          </a:xfrm>
          <a:prstGeom prst="rect">
            <a:avLst/>
          </a:prstGeom>
          <a:solidFill>
            <a:srgbClr val="d9d9d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Check in with your guidance counselor and admissions counselor at each University at least once a mont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360360" y="384120"/>
            <a:ext cx="838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ernard MT Condensed"/>
              </a:rPr>
              <a:t>Gateway to Success/ACT 1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Callout 10"/>
          <p:cNvSpPr/>
          <p:nvPr/>
        </p:nvSpPr>
        <p:spPr>
          <a:xfrm>
            <a:off x="620640" y="1214280"/>
            <a:ext cx="4527720" cy="17938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1"/>
          <p:cNvSpPr/>
          <p:nvPr/>
        </p:nvSpPr>
        <p:spPr>
          <a:xfrm>
            <a:off x="1203480" y="1471680"/>
            <a:ext cx="34383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  <a:ea typeface="Tahoma"/>
              </a:rPr>
              <a:t>Gateway is but a door, and you are the key; unlock yourself and find the person you are meant to become.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2"/>
          <p:cNvSpPr/>
          <p:nvPr/>
        </p:nvSpPr>
        <p:spPr>
          <a:xfrm>
            <a:off x="338040" y="3330720"/>
            <a:ext cx="392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ummer ‘10 student particip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5"/>
          <p:cNvSpPr/>
          <p:nvPr/>
        </p:nvSpPr>
        <p:spPr>
          <a:xfrm>
            <a:off x="5540400" y="1314360"/>
            <a:ext cx="287496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nsive, structured and supportive program for students whose academic credentials may not reflect their true potent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6"/>
          <p:cNvSpPr/>
          <p:nvPr/>
        </p:nvSpPr>
        <p:spPr>
          <a:xfrm>
            <a:off x="4695840" y="3187800"/>
            <a:ext cx="369396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Education Equal Opportunity Program (ACT 101)- provides support services for PA undergraduate students whose cultural, economic and educational disadvantages might impede their ability to pursue higher education opportunities successfu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380880" y="35388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ernard MT Condensed"/>
              </a:rPr>
              <a:t>Honors Progr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Callout 2"/>
          <p:cNvSpPr/>
          <p:nvPr/>
        </p:nvSpPr>
        <p:spPr>
          <a:xfrm>
            <a:off x="115920" y="1050840"/>
            <a:ext cx="7142040" cy="20098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  <a:ea typeface="Tahoma"/>
              </a:rPr>
              <a:t>"The Honors Program at Arcadia University enriched my learning experience through various courses, cultural events, and traveling opportunities. The professors in the program have designed an atmosphere that teaches a student to think outside of the box.”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Callout 5"/>
          <p:cNvSpPr/>
          <p:nvPr/>
        </p:nvSpPr>
        <p:spPr>
          <a:xfrm>
            <a:off x="3133800" y="3006720"/>
            <a:ext cx="5573520" cy="23083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  <a:ea typeface="Tahoma"/>
              </a:rPr>
              <a:t>The Honors Program is designed to broaden students’ horizons and to challenge them with a variety of courses they might never get to take as part of their majors or minors while introducing them to a variety of students from all academic disciplines.”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5324400" y="5413320"/>
            <a:ext cx="317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ll Meiers, Honors Progra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-Dir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2523960" y="3095640"/>
            <a:ext cx="17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hawn 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ernard MT Condensed"/>
              </a:rPr>
              <a:t>First Year Study Abroad Experience (FYSAE)</a:t>
            </a:r>
            <a:endParaRPr b="0" lang="en-US" sz="3600" spc="-1" strike="noStrike">
              <a:solidFill>
                <a:srgbClr val="a4001e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373640" y="2075040"/>
            <a:ext cx="4362480" cy="35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Selected students are invited to study abroad in London, England or Stirling, Scotland during the fall or spring semester of their freshman ye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_MG_0518.jpg"/>
          <p:cNvPicPr/>
          <p:nvPr/>
        </p:nvPicPr>
        <p:blipFill>
          <a:blip r:embed="rId1"/>
          <a:stretch/>
        </p:blipFill>
        <p:spPr>
          <a:xfrm>
            <a:off x="1182600" y="1360440"/>
            <a:ext cx="3032280" cy="4543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7840" y="363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4001e"/>
                </a:solidFill>
                <a:latin typeface="Bernard MT Condensed"/>
              </a:rPr>
              <a:t>Step Four: Organize</a:t>
            </a:r>
            <a:endParaRPr b="0" lang="en-US" sz="3600" spc="-1" strike="noStrike">
              <a:solidFill>
                <a:srgbClr val="a4001e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Make a list of your potential schools and make a copy for your college counselo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Dead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Why you’re inter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Special Programs (If applic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3"/>
          <p:cNvSpPr/>
          <p:nvPr/>
        </p:nvSpPr>
        <p:spPr>
          <a:xfrm>
            <a:off x="264960" y="2077920"/>
            <a:ext cx="3451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Get ready for the journe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of your life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\\cafall\Photos\Arcadia_Current\Events\2010\Commencement\Undergraduate\Blustein\IMG_0098.jpg"/>
          <p:cNvPicPr/>
          <p:nvPr/>
        </p:nvPicPr>
        <p:blipFill>
          <a:blip r:embed="rId1"/>
          <a:stretch/>
        </p:blipFill>
        <p:spPr>
          <a:xfrm>
            <a:off x="3938760" y="1809720"/>
            <a:ext cx="4997160" cy="3332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04" name="Picture 4" descr="promiselogo.bmp"/>
          <p:cNvPicPr/>
          <p:nvPr/>
        </p:nvPicPr>
        <p:blipFill>
          <a:blip r:embed="rId2"/>
          <a:stretch/>
        </p:blipFill>
        <p:spPr>
          <a:xfrm>
            <a:off x="932040" y="423720"/>
            <a:ext cx="724032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4001e"/>
                </a:solidFill>
                <a:latin typeface="Bernard MT Condensed"/>
              </a:rPr>
              <a:t>Step One: Research</a:t>
            </a:r>
            <a:endParaRPr b="0" lang="en-US" sz="3600" spc="-1" strike="noStrike">
              <a:solidFill>
                <a:srgbClr val="a4001e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What are you looking for in a schoo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Intended maj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Class siz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Study abroad progra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Internshi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Athletic opportun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nard MT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Financial Ai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506680" y="1898640"/>
            <a:ext cx="4135320" cy="1722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139680" y="1455840"/>
            <a:ext cx="2216160" cy="2955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6802560" y="2446200"/>
            <a:ext cx="2109600" cy="2814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2617920" y="3946680"/>
            <a:ext cx="3936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You have four years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radley Hand ITC"/>
              </a:rPr>
              <a:t>how many miles you cover is up to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promiselogo.bmp"/>
          <p:cNvPicPr/>
          <p:nvPr/>
        </p:nvPicPr>
        <p:blipFill>
          <a:blip r:embed="rId4"/>
          <a:stretch/>
        </p:blipFill>
        <p:spPr>
          <a:xfrm>
            <a:off x="1120680" y="293760"/>
            <a:ext cx="724068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371520" y="353880"/>
            <a:ext cx="838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ernard MT Condensed"/>
              </a:rPr>
              <a:t>Student Lif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6189840" y="1278000"/>
            <a:ext cx="2585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Enj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Daniel-Radcliffe-How-To-Succeed-In-Business-Without-Really-Trying.jpg"/>
          <p:cNvPicPr/>
          <p:nvPr/>
        </p:nvPicPr>
        <p:blipFill>
          <a:blip r:embed="rId1"/>
          <a:stretch/>
        </p:blipFill>
        <p:spPr>
          <a:xfrm>
            <a:off x="6332400" y="3270240"/>
            <a:ext cx="2092320" cy="2436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LN.JPG"/>
          <p:cNvPicPr/>
          <p:nvPr/>
        </p:nvPicPr>
        <p:blipFill>
          <a:blip r:embed="rId2"/>
          <a:stretch/>
        </p:blipFill>
        <p:spPr>
          <a:xfrm>
            <a:off x="3025800" y="1415880"/>
            <a:ext cx="2651040" cy="141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sa.jpg"/>
          <p:cNvPicPr/>
          <p:nvPr/>
        </p:nvPicPr>
        <p:blipFill>
          <a:blip r:embed="rId3"/>
          <a:stretch/>
        </p:blipFill>
        <p:spPr>
          <a:xfrm>
            <a:off x="2924280" y="3044880"/>
            <a:ext cx="2935080" cy="2419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tosh.jpg"/>
          <p:cNvPicPr/>
          <p:nvPr/>
        </p:nvPicPr>
        <p:blipFill>
          <a:blip r:embed="rId4"/>
          <a:stretch/>
        </p:blipFill>
        <p:spPr>
          <a:xfrm>
            <a:off x="281160" y="1297080"/>
            <a:ext cx="236196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371520" y="353880"/>
            <a:ext cx="838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ernard MT Condensed"/>
              </a:rPr>
              <a:t>Athlet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632480" y="1511280"/>
            <a:ext cx="4303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Division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17 Different Varsity S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ntramurals and Club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trength and Conditioning C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3 New Gym Fac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5803920" y="4487760"/>
            <a:ext cx="2516040" cy="96372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4" name="Picture 1" descr=""/>
          <p:cNvPicPr/>
          <p:nvPr/>
        </p:nvPicPr>
        <p:blipFill>
          <a:blip r:embed="rId2"/>
          <a:stretch/>
        </p:blipFill>
        <p:spPr>
          <a:xfrm>
            <a:off x="1068480" y="1600200"/>
            <a:ext cx="2782800" cy="278280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371520" y="353880"/>
            <a:ext cx="838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Global Conn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395280" y="1082520"/>
            <a:ext cx="4206960" cy="44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rcadia University College of Global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Global Classroom Exper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athways to Study Ab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Global Connections Experience &amp; Ref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reshman Preview and Transfer P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irst Year Study Abroad Experience (FYSA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4624560" y="1428840"/>
            <a:ext cx="434340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4001e"/>
                </a:solidFill>
                <a:latin typeface="Bernard MT Condensed"/>
              </a:rPr>
              <a:t>Step Two: Apply</a:t>
            </a:r>
            <a:endParaRPr b="0" lang="en-US" sz="3600" spc="-1" strike="noStrike">
              <a:solidFill>
                <a:srgbClr val="a4001e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Application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Application Fe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Credential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Admissions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Dead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nard MT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nard MT Condensed"/>
              </a:rPr>
              <a:t>E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4"/>
          <p:cNvSpPr/>
          <p:nvPr/>
        </p:nvSpPr>
        <p:spPr>
          <a:xfrm>
            <a:off x="241200" y="1096920"/>
            <a:ext cx="8691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Appl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Ess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High School/College Transcrip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SAT or ACT sc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Guidance Counselor Recommend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Teacher Recommend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Portfolio Review or Acting Audition for BFA Candid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Résum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80880" y="35388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ernard MT Condensed"/>
              </a:rPr>
              <a:t>Admis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380880" y="35388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ernard MT Condensed"/>
              </a:rPr>
              <a:t>Admissions Deadli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0" y="1266840"/>
            <a:ext cx="864864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nuary 1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Priority Admissions Application Deadline for Distinguished Scholarship Consi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rch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Priority Admissions Application Deadline for Achievement Award Consideration and Priority Financial Aid Dea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y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Deposit Deadline/National Candidates’ Reply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2T18:55:46Z</dcterms:created>
  <dc:creator>lapmant</dc:creator>
  <dc:description/>
  <dc:language>en-US</dc:language>
  <cp:lastModifiedBy>Frank</cp:lastModifiedBy>
  <dcterms:modified xsi:type="dcterms:W3CDTF">2014-06-09T16:35:46Z</dcterms:modified>
  <cp:revision>359</cp:revision>
  <dc:subject/>
  <dc:title>Slide 1</dc:title>
</cp:coreProperties>
</file>